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5803-9787-498F-8A83-ED41B863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7160-E3F1-482B-8ED4-E22681A7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13B4-2ED7-4523-8EB8-2CF36F6BA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19E-1D8C-48E4-B9F4-A3301376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F338-6ABA-4AEE-BAE8-143A7C49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D8D0-1BB5-42A5-922C-091CC7A4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CB44-5D54-428B-8ADA-D39EE5FE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D446-ED35-412F-AE44-1457F083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D87E-8E32-4249-AD30-CC1559EB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5A55-800F-4D25-9F46-879B412E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659E-E1BC-4319-8ED7-F5BB3DE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42E-FAB8-40EB-8F6B-736E305D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D0BB-1E4E-4AC3-9173-7A31FA58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D058-8C9B-4A86-A473-D2354916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2566-9F75-4457-A4CC-6485C359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37A0-853A-4589-8F14-3D544CAF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E0FC-AFE4-43EA-842F-B5DD1FB7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61E-57DC-4A9C-BF53-FCBB1782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0080-55E3-4CA0-B140-7A9D2E92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815-CA3D-476C-83DC-F08E75DD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326-D996-43DA-B8A5-168C812E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D15-444A-465E-934F-35701B2F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18E-7310-4248-92B2-B283F32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53D-3A66-4B33-9FFB-28F9DADF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0C0E-E95B-40E5-95ED-ABE11EC4C0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87C6-EEA7-4C8C-9CED-0849354891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ahoma"/>
              </a:rPr>
              <a:t>The Atlantic Slave Trade</a:t>
            </a:r>
            <a:br>
              <a:rPr sz="4800"/>
            </a:br>
            <a:r>
              <a:rPr b="0" lang="en-US" sz="4800" spc="-1" strike="noStrike">
                <a:solidFill>
                  <a:srgbClr val="ff9900"/>
                </a:solidFill>
                <a:latin typeface="Tahoma"/>
              </a:rPr>
              <a:t>(15</a:t>
            </a:r>
            <a:r>
              <a:rPr b="0" lang="en-US" sz="4800" spc="-1" strike="noStrike" baseline="30000">
                <a:solidFill>
                  <a:srgbClr val="ff9900"/>
                </a:solidFill>
                <a:latin typeface="Tahoma"/>
              </a:rPr>
              <a:t>th</a:t>
            </a:r>
            <a:r>
              <a:rPr b="0" lang="en-US" sz="4800" spc="-1" strike="noStrike">
                <a:solidFill>
                  <a:srgbClr val="ff9900"/>
                </a:solidFill>
                <a:latin typeface="Tahoma"/>
              </a:rPr>
              <a:t>-19</a:t>
            </a:r>
            <a:r>
              <a:rPr b="0" lang="en-US" sz="4800" spc="-1" strike="noStrike" baseline="30000">
                <a:solidFill>
                  <a:srgbClr val="ff9900"/>
                </a:solidFill>
                <a:latin typeface="Tahoma"/>
              </a:rPr>
              <a:t>th</a:t>
            </a:r>
            <a:r>
              <a:rPr b="0" lang="en-US" sz="4800" spc="-1" strike="noStrike">
                <a:solidFill>
                  <a:srgbClr val="ff9900"/>
                </a:solidFill>
                <a:latin typeface="Tahoma"/>
              </a:rPr>
              <a:t> Centuries)</a:t>
            </a:r>
            <a:br>
              <a:rPr sz="4800"/>
            </a:b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Commerce in Peo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05320" y="2286000"/>
            <a:ext cx="202068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African Slaves Washing Gol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0851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Investors in the Slave Tra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nce Henry the Navig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izabeth 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uis X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1828800" cy="274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71800" y="2286000"/>
            <a:ext cx="2857680" cy="1838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276720" y="4330800"/>
            <a:ext cx="22111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Essential Ques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explains the rise of the Atlantic slave tr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roles did Europeans &amp; Africans pla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the Atlantic slave trade transform African societ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id the Atlantic slave trade differ from other forms of slave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304920"/>
            <a:ext cx="6858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Trans-Atlantic Slave Trade/Triangular Tra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Nations Participating in the </a:t>
            </a:r>
            <a:br>
              <a:rPr sz="4000"/>
            </a:b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Slave Trad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82496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The Middle Passa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rom Africa to the Amer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est Indi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rth &amp; South Americ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igh death r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90720" y="228600"/>
            <a:ext cx="68580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Slave 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066680" y="1143000"/>
            <a:ext cx="6934320" cy="520056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380880"/>
            <a:ext cx="70106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“</a:t>
            </a: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Coffin” Position Below De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705360" cy="457704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90720" y="152280"/>
            <a:ext cx="70102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African Captives</a:t>
            </a:r>
            <a:br>
              <a:rPr sz="4400"/>
            </a:br>
            <a:r>
              <a:rPr b="1" lang="en-US" sz="4400" spc="-1" strike="noStrike">
                <a:solidFill>
                  <a:srgbClr val="ff9900"/>
                </a:solidFill>
                <a:latin typeface="BlackChancery"/>
              </a:rPr>
              <a:t>Thrown Overboa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324480" cy="474372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66680" y="228600"/>
            <a:ext cx="6858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24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BlackChancery"/>
              </a:rPr>
              <a:t>Slaves Working in a </a:t>
            </a:r>
            <a:br>
              <a:rPr sz="4000"/>
            </a:br>
            <a:r>
              <a:rPr b="1" lang="en-US" sz="4000" spc="-1" strike="noStrike">
                <a:solidFill>
                  <a:srgbClr val="ff9900"/>
                </a:solidFill>
                <a:latin typeface="BlackChancery"/>
              </a:rPr>
              <a:t>Brazilian Sugar Mi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95280" y="1676520"/>
            <a:ext cx="6553440" cy="491472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ahoma"/>
              </a:rPr>
              <a:t>Slave Market in Algi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3455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4:49:41Z</dcterms:created>
  <dc:creator>epilla</dc:creator>
  <dc:description/>
  <dc:language>en-US</dc:language>
  <cp:lastModifiedBy>epilla</cp:lastModifiedBy>
  <dcterms:modified xsi:type="dcterms:W3CDTF">2009-10-26T16:22:28Z</dcterms:modified>
  <cp:revision>5</cp:revision>
  <dc:subject/>
  <dc:title>The Atlantic Slave Trade</dc:title>
</cp:coreProperties>
</file>